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27A-04E0-463B-AFCC-6C5C0051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1EC-6880-450B-87BD-129B6167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86A-FAF3-4395-9500-598B3F04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D92-7870-4C3B-B1EC-8ED6524E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2949-7ABB-4F6C-9424-941FD0B9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0797-EF6B-47ED-93BF-4B2339F9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55E0-FFA0-47F2-9836-0A362275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CBA1-86A8-4E89-B190-0F91BB2B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95AC-31BF-4E7D-AFF1-2359E981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4647-67B8-4F3C-B9B3-832B8411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9B74-784F-442F-8E25-C5C3D8BC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4E9-6EAA-4FE8-AC03-E17BB6F3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476B-5A69-4579-AEB6-1D741D1E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B312-5399-4690-93D2-3479CC4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600A-7716-46C2-9919-AF8D4D3F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AFED-E88A-4C93-9675-4569FCFB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990A-65CF-403D-92E7-9AEB9891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0A5-0E17-420C-A417-D224903E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B72-CEDE-462E-82F2-776B5FBF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98D-4BF2-411F-BE08-0483C3C2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047-DD1D-43E0-BF98-1424056C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BB2-68EB-4450-990A-DFDE680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7DB-3B1B-4287-8180-01F777A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099-65B5-4920-A1E1-7CFCDBFD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B10B-DF6F-49D0-BAA7-961CB2120A8C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F521-EABF-43B3-9DF5-1E5358CDA53F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87" name="Blepharisma ciliate  Contractile Vacuole in Action.avi" descr=""/>
          <p:cNvPicPr/>
          <p:nvPr/>
        </p:nvPicPr>
        <p:blipFill>
          <a:blip r:embed="rId1"/>
          <a:stretch/>
        </p:blipFill>
        <p:spPr>
          <a:xfrm>
            <a:off x="539640" y="0"/>
            <a:ext cx="770904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89" name="Year 7 sci The Role of Red Blood Cells in Anemia.mp4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80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Animal 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ere are many different types of cells in a multicellular organism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e human is made up of more than 20 different cell types, each with a specific func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26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tick the handout in your book, and then summarise each by f</a:t>
            </a: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illing in the following table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9640" y="2276640"/>
          <a:ext cx="7993080" cy="3781440"/>
        </p:xfrm>
        <a:graphic>
          <a:graphicData uri="http://schemas.openxmlformats.org/drawingml/2006/table">
            <a:tbl>
              <a:tblPr/>
              <a:tblGrid>
                <a:gridCol w="2160720"/>
                <a:gridCol w="5832360"/>
              </a:tblGrid>
              <a:tr h="37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Cell Typ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Details (eg size, function, location etc)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Nerv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Muscl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Red Blood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Bon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Lung Epithelial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Adipos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Skin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Sperm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Egg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Hamstring Tear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5" name="DavidBolinsky_2007.mp4" descr=""/>
          <p:cNvPicPr/>
          <p:nvPr/>
        </p:nvPicPr>
        <p:blipFill>
          <a:blip r:embed="rId1"/>
          <a:stretch/>
        </p:blipFill>
        <p:spPr>
          <a:xfrm>
            <a:off x="198360" y="1557360"/>
            <a:ext cx="8704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Hamstring Repair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7" name="ATS Hamstring Repair.mov.avi" descr=""/>
          <p:cNvPicPr/>
          <p:nvPr/>
        </p:nvPicPr>
        <p:blipFill>
          <a:blip r:embed="rId1"/>
          <a:stretch/>
        </p:blipFill>
        <p:spPr>
          <a:xfrm>
            <a:off x="322200" y="1628640"/>
            <a:ext cx="85838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Read the handout and complete the following question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do all living things have in common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is a eukaryote and a prokaryote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does a cell membrane do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6-02T10:39:57Z</dcterms:modified>
  <cp:revision>55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